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4AC-0D35-4CA7-B9FD-75A833DC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E39-2A03-44FE-9FC4-85AE0CF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650-23B2-41AD-9A08-5CCD5DAD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5F0-9C38-4B64-89FB-422B73B5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DA8-00CC-4E20-90C4-6102D4A5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4D9-0893-4516-885A-C1E4545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AFB-3452-43DC-997E-05A1A03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599-13F3-4D9C-B83F-DCE7D27E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803-6921-45D6-BD3C-2801D0DD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884-778A-4BA1-B78A-99A6CBE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3A7-F4F1-4A31-BD6D-272651F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3D6-43B5-4502-8BD7-F62D09D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D8E-3CEE-4794-AFB1-7D1B06609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Structure 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9154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Structure Review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each of the following sentences carefully.  Write the corresponding letter next to the sentenc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Correc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B.  Fused sent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pl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Quebec is famous for its maple sugar, and sugaring time is very important in French-Canadian vill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nn went horseback riding every weekend, she rode in the annual horse show every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The fastest runner is Adam he is on the track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We had an assembly today; the high school jazz ensemble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ncreases in our taxes for the last thre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Several birds built nests near our school we took pictures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The snow is too slushy, consequently Monica and I are not going ski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Drive to the end of the street and tur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She used to miss a lot of shots; now she is a skilled player who scores many points each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The houses were old, however, they were brightly painted and well main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0155" t="21878" r="9376" b="8333"/>
          <a:stretch/>
        </p:blipFill>
        <p:spPr>
          <a:xfrm>
            <a:off x="228600" y="129528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2814" t="21878" r="3906" b="16666"/>
          <a:stretch/>
        </p:blipFill>
        <p:spPr>
          <a:xfrm>
            <a:off x="533520" y="0"/>
            <a:ext cx="79246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4584" r="26564" b="29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8753" r="25003" b="20835"/>
          <a:stretch/>
        </p:blipFill>
        <p:spPr>
          <a:xfrm>
            <a:off x="-2286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2880" y="2362320"/>
            <a:ext cx="1905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p had explo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4584" r="25782" b="20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28600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op had exploded.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a s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14584" r="9376" b="39583"/>
          <a:stretch/>
        </p:blipFill>
        <p:spPr>
          <a:xfrm>
            <a:off x="0" y="228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0835" r="35937" b="27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4584" r="29687" b="30211"/>
          <a:stretch/>
        </p:blipFill>
        <p:spPr>
          <a:xfrm>
            <a:off x="0" y="228600"/>
            <a:ext cx="9144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7:38:31Z</dcterms:created>
  <dc:creator>nbdoe</dc:creator>
  <dc:description/>
  <dc:language>en-US</dc:language>
  <cp:lastModifiedBy>nbdoe</cp:lastModifiedBy>
  <dcterms:modified xsi:type="dcterms:W3CDTF">2007-10-26T18:12:16Z</dcterms:modified>
  <cp:revision>6</cp:revision>
  <dc:subject/>
  <dc:title>Sentence Structure Exercises</dc:title>
</cp:coreProperties>
</file>